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3005-1B74-4F0B-AFFB-11913C9D8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CAEA-0458-497C-AA96-080D5DA44D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iology, we would say “the evidence supports the hypothesis that…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of cognitive dissona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tic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al (what happens if we reverse…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of different symbol system (ex explain something in both words and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ies (looking for corresponden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ion (filling in incomplete ele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alysis (uncovering the complex multiple effects extending from a single sour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3CD0-7F8F-43D1-B261-25BF75A5F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5848-AC16-43BE-BF2A-86201C374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5396-915B-4182-9FBD-CC6960914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8DDA-BA87-45DD-91C4-3F5F3F5A3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344-6875-4BD0-BE8B-6DDF1EFD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5AD-8601-4110-958E-7CA5A337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4F1-B45F-4B44-A676-1F7ACAAF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DE0C-CF19-4D6C-9917-99D2DC7E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539A-D1A3-44BF-BF88-0BEA7511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58C4-F07C-4808-AAC8-60CBE2E9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F730-B0F7-48B6-8E93-F52E37F2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33CD-5CCB-46FB-B3D0-04B7D84D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26DE-4877-4EF9-9673-9DE18035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4085-C0E4-421E-B2EE-D3153019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0CEF-0EC1-4FE7-849F-1E095277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56D-CBFE-412B-8F70-C9E5722D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DDB8-C657-4296-902A-8B626449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37FB-CF58-4EBF-A450-FEA9F729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A2C6-D45D-4438-8A78-689B0323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DA3A-4DCE-4600-BB9C-B446B302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3229-6365-4554-AE35-CFF0AC46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F80-E5E4-4924-97CB-BF506555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12F-1D7D-4D12-A631-8897C970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2E5E-BB07-4D6F-8F24-0A5C11F3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193-8ED8-40F0-8773-D7DCB1B9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8E6-182A-4CCB-859D-2981FB5F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D41-7066-4932-B5C1-301CA4B8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DFB-E201-4CA1-81E6-0E58E2EA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4540-5FCB-4809-A2D9-22224516E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3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7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509B-FEE7-49A0-B895-2157250762A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michelle.withers@mail.wvu.edu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, how do we know what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9604" r="0" b="0"/>
          <a:stretch/>
        </p:blipFill>
        <p:spPr>
          <a:xfrm>
            <a:off x="685800" y="3505320"/>
            <a:ext cx="1940040" cy="2641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267080" y="3505320"/>
            <a:ext cx="1871640" cy="2666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2438280"/>
            <a:ext cx="1754280" cy="2705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rcRect l="7410" t="11901" r="55564" b="28571"/>
          <a:stretch/>
        </p:blipFill>
        <p:spPr>
          <a:xfrm>
            <a:off x="6095880" y="2362320"/>
            <a:ext cx="207324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920" y="914400"/>
            <a:ext cx="883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articular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our students know when they know something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know when they know some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Gau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ask a student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mething, they are simultaneousl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learning and ca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au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ir progress by whether or how well they can per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ndelsman et al., 2006 Scientific Te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people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146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495680" y="2103480"/>
            <a:ext cx="0" cy="91440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4495680" y="4084560"/>
            <a:ext cx="0" cy="91440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instorm: Talk with your group and come up with an example of modern-day natural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biotic resistance is caus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mutations that are independent of exposure to antibiotics render some bacteria antibiotic resistant, which allows them to survive in the presence of antibi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nsitization of the human immune system to antibiotics, due to repeated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 in individual bacteria caused by repeated exposure to antibiotics that render them insensitive to antibi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81000" y="2344680"/>
            <a:ext cx="8970840" cy="4030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472880" y="6345360"/>
            <a:ext cx="1216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oefler Text"/>
              </a:rPr>
              <a:t>(AAAS 199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09480" y="2438280"/>
            <a:ext cx="1828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 flipH="1">
            <a:off x="1371240" y="4038480"/>
            <a:ext cx="3049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676520" y="4038480"/>
            <a:ext cx="53316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83400" y="3200400"/>
            <a:ext cx="24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represen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for an ent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04920" y="304920"/>
            <a:ext cx="8381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4b4b4b"/>
                </a:solidFill>
                <a:latin typeface="Hoefler Text"/>
              </a:rPr>
              <a:t>Based on your understanding of natural selection and traits that vary along a continuum, explain the changes that occurred in the tree and dinosaur populations over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rwin at the Olym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6312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activity: Modify the 100m dash so that it becomes an example of natural se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able to tell the class what sorts of modifications or rules you would have to impose upon this event for it to become an example of natural se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9160" y="5486400"/>
            <a:ext cx="90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knowledgements:  Clarissa Dirks, Evergreen State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VU Summer Institu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Undergraduat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ce and Math 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7-11, 2010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chelle.withers@mail.wvu.ed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pplication/information</a:t>
            </a: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eled after the National Academy Summer Institute on Undergraduate Biology Educ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e salamanders are blind (they have eyes that are not functional). How would a biologist explain how blind cave salamanders evolved from sighted ancesto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22:58:16Z</dcterms:created>
  <dc:creator>Michelle Withers</dc:creator>
  <dc:description/>
  <dc:language>en-US</dc:language>
  <cp:lastModifiedBy>michelle</cp:lastModifiedBy>
  <dcterms:modified xsi:type="dcterms:W3CDTF">2010-03-21T11:26:49Z</dcterms:modified>
  <cp:revision>183</cp:revision>
  <dc:subject/>
  <dc:title>Slide 1</dc:title>
</cp:coreProperties>
</file>